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AB4-AFAA-4DEC-92D0-5ADCDD63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159-42E6-4F75-BD37-90BBE248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655-7AC5-43F3-9903-619445C7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36E-26F0-420F-BF70-E0C6D29F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BDA1-CEF6-417A-8204-E0D5FB9E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AF8A-794A-4196-AD12-AC42E2AB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16A8-3226-464D-8FEF-16A42E48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F2CE-5652-482C-A7D6-E0098787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A9E4-C5B2-4516-9F65-2DA576C1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1E69-1183-4C40-8C3B-C672B4EE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1347-984D-41E2-A592-16842C8B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8EB-2468-4D59-AB1A-70EC75D0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4B5E-4D8F-46ED-9D5F-591FB454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4127-E15E-4585-81FB-7E2E7B8F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18AB-DAEC-4EB4-86C6-2F7344C2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6BE1-B73A-45F1-A174-1C0734F1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FFF4-5BE2-4B5A-9BAE-9C104576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D3D-3719-468A-B605-D26388A7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ACC-79B9-4C10-B625-7A911345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2CA-1B17-429D-BA4D-FAC503FA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E33-77AE-4CA9-B857-88F2B5F3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A6CD-60A3-4E79-B827-9B9574CA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0C53-026A-44AF-A5CB-F15C3CED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4F3-3F16-4DD7-B623-1E23A768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ED12-5E39-4022-A7E8-54711FFBEE5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2A21-035C-4D33-84E5-410E352A997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Me llamo _______ Clase 6NH(601) </a:t>
            </a:r>
            <a:br>
              <a:rPr sz="3600"/>
            </a:b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La fecha es el 23 de octubre de 201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Propósito # 12: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Llevas uniforme a la escuel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opia y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Comic Sans MS"/>
              </a:rPr>
              <a:t>Ejercicio 2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p. R11 (1-5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a Ro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mbra los siguientes articulos de rop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               3.                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6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0120" y="2057400"/>
            <a:ext cx="647640" cy="1604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86400" y="4191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1528920" cy="1528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857680" y="2190600"/>
            <a:ext cx="1866600" cy="1619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124080" y="5019840"/>
            <a:ext cx="1762200" cy="1761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533520" y="4800600"/>
            <a:ext cx="1523880" cy="1609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7848720" y="4419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784872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029200" y="17524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905120" y="2819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840120"/>
            <a:ext cx="1600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380988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3657600"/>
            <a:ext cx="2057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antal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38880" y="3581280"/>
            <a:ext cx="15242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rb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3104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uéter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191120" y="6553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123720" y="57913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61261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lus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627840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fa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5410080"/>
            <a:ext cx="21333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os 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5943600"/>
            <a:ext cx="16765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zapatos de vesti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543800" y="5562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7619760" y="6324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31845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200"/>
                </a:solidFill>
                <a:latin typeface="Verdana"/>
              </a:rPr>
              <a:t>ma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200"/>
                </a:solidFill>
                <a:latin typeface="Verdana"/>
              </a:rPr>
              <a:t>cor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4191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200"/>
                </a:solidFill>
                <a:latin typeface="Verdana"/>
              </a:rPr>
              <a:t>manga lar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s Vocabulari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mbra las siguientes cosa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              3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109960" cy="1071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352680" y="1828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799240" y="1828800"/>
            <a:ext cx="1135080" cy="1704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6981840" y="1828800"/>
            <a:ext cx="1171440" cy="1676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914400" y="3886200"/>
            <a:ext cx="1824120" cy="1415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3505320" y="36576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6162840" y="3733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620120" y="5257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2895480"/>
            <a:ext cx="1447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us esco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312408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scu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327672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leg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297180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rofesor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3352680"/>
            <a:ext cx="19810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aestro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5257800"/>
            <a:ext cx="175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alumn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5715000"/>
            <a:ext cx="2057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studi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5410080"/>
            <a:ext cx="16765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a ti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5105520"/>
            <a:ext cx="2286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mpleado/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5638680"/>
            <a:ext cx="2286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l/la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48006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istorieta 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. R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ta p. R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36232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area #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7:43:26Z</dcterms:created>
  <dc:creator>Helen Zumaeta</dc:creator>
  <dc:description/>
  <dc:language>en-US</dc:language>
  <cp:lastModifiedBy>Helen Zumaeta</cp:lastModifiedBy>
  <dcterms:modified xsi:type="dcterms:W3CDTF">2012-10-22T16:28:48Z</dcterms:modified>
  <cp:revision>4</cp:revision>
  <dc:subject/>
  <dc:title>Me llamo ________         Clase 6NH La fecha es el 13 de febrero de 2012</dc:title>
</cp:coreProperties>
</file>